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767-D7FF-4425-A8B1-B95CC6A6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B78-ADCA-42DB-94EC-B7B589A6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1D7-70F6-47C4-8A9B-22E24C33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271-D503-49A8-ACEB-ECB9BF00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ABB7-7CC6-4EDA-ADAF-FEE591F4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0BFD-46D1-414F-B532-A163FFD5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692E-E056-4D26-AD64-9D065C77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489F-CB05-46E8-848D-D7E35FFE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40B4-3B4C-4AF5-837B-D0C25FE4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6D83-4900-4263-A11C-6D0E8D9B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61E6-6846-4DF8-91E8-F28762DF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B5A-BB2F-49D8-B3E7-187B1314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BA7C-B628-4B41-97EC-CCD6DF54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8059-2574-452D-8A91-C5E709B1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39EB-1FBD-4B79-9A17-0DD0A587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1D5E-EBE9-4233-897C-EBEC90C5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EBEC-35C2-46CF-A8B3-9D1C5A31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095-690C-4EA2-B10D-462D00F1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FC2-64B6-4A82-81EC-87F630A2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479-E920-413B-9448-B05B27C5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189-486A-4289-B6D5-D7E9009B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EF20-5165-4EAA-B7F8-68D2BB0B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D22-D49D-486A-96CE-78933F3B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9D0-A8DA-4E3E-B0CE-5786F843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7CC4-81C9-4CF6-9060-C053C472937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3104-5419-43F9-B5F3-38347B26DA0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English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Oct. 7, 2009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bate-Should Victor go on with his life, or suffer for what he has done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ch. 9, discussion ques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ve an AR book by Fri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Your odds of appering on the Tonight Show are one in 490,000 your odds of being killed in a plane crash are one in 11 million your odds of winning the reader’s digest sweepstakes are one in two hundred thirteen millio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hip:bridge:: ________:cockpi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loquent:words:: nimble:___________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Ch. 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scussion ques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8:43:53Z</dcterms:created>
  <dc:creator>VMS</dc:creator>
  <dc:description/>
  <dc:language>en-US</dc:language>
  <cp:lastModifiedBy>VMS</cp:lastModifiedBy>
  <dcterms:modified xsi:type="dcterms:W3CDTF">2009-10-07T18:46:09Z</dcterms:modified>
  <cp:revision>1</cp:revision>
  <dc:subject/>
  <dc:title>English</dc:title>
</cp:coreProperties>
</file>